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9B8-59F7-42D2-A489-AE73D16CC872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37C7-507E-4D03-8D2D-E389F3EA1145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25400" y="3792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808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340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8104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2540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340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8104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0560" y="288720"/>
            <a:ext cx="70372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808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3760" y="6380280"/>
            <a:ext cx="85644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30240" y="5502240"/>
            <a:ext cx="203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49400" y="187200"/>
            <a:ext cx="7308720" cy="1238400"/>
            <a:chOff x="1049400" y="187200"/>
            <a:chExt cx="7308720" cy="1238400"/>
          </a:xfrm>
        </p:grpSpPr>
        <p:graphicFrame>
          <p:nvGraphicFramePr>
            <p:cNvPr id="4" name=""/>
            <p:cNvGraphicFramePr/>
            <p:nvPr/>
          </p:nvGraphicFramePr>
          <p:xfrm>
            <a:off x="1120680" y="187200"/>
            <a:ext cx="7237440" cy="123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20680" y="187200"/>
                      <a:ext cx="7237440" cy="12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" name=""/>
            <p:cNvSpPr/>
            <p:nvPr/>
          </p:nvSpPr>
          <p:spPr>
            <a:xfrm>
              <a:off x="1049400" y="285480"/>
              <a:ext cx="7054920" cy="89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284040" y="6319800"/>
          <a:ext cx="859968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040" y="6319800"/>
                    <a:ext cx="8599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271440" y="6356520"/>
            <a:ext cx="85726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031360" y="6362640"/>
            <a:ext cx="378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Noncommissioned Officer 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1840" y="6324480"/>
            <a:ext cx="3127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47680" y="6324480"/>
            <a:ext cx="21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400/OCT 04/VGT-</a:t>
            </a:r>
            <a:fld id="{FBA2980A-1E1A-4B5C-883D-D165CD8CDB7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600960" y="5943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A2AS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thical Reas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SELFLESS SERVICE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5400" y="2427120"/>
            <a:ext cx="777240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o what’s right for the nation, the Army, your organization, and your people --and to put these responsibilities above your own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SELFLESS SERVICE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selfless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welfare of the nation, the Army, and subordinates before their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 team mo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subordinates’ hard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redit for success to others and accept responsibility for failure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HONOR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06440" y="2543040"/>
            <a:ext cx="719136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put Army values ab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nterest, career, comfor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lf-pre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HONOR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1080" y="2209680"/>
            <a:ext cx="71467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hon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up to Arm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ie, cheat, steal, or tolerate those actions b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NTEGRI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3080" y="2064960"/>
            <a:ext cx="75247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what’s right from what’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ct according to what you know is right, even at person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openly that you’re acting on your understanding of right versu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NTEGRI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integ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hat is right legally and mo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 high personal moral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honest in word and d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consistently good moral judgment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being right ahead of being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PERSONAL COURAGE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emonstrate both physical and moral cou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ourage means overcoming fears of bodily harm and doing your du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courage means the willingness to stand firm on your values, principles, and convictions even when threat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PERSONAL COURAGE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207792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personal cou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physical and moral br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responsibility for decisions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responsibility for mistakes and shortcom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Ethical Reasoning Proces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0280" y="2165400"/>
            <a:ext cx="73069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the releva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evaluate courses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course of action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represents Arm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81480" y="3962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0560" y="307800"/>
            <a:ext cx="7037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efine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741320"/>
            <a:ext cx="33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1555920"/>
            <a:ext cx="77133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720" y="1563840"/>
            <a:ext cx="7713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39880" y="1947600"/>
            <a:ext cx="68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meal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rving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soldiers to eat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mportance of Ethical Reasoning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413080"/>
            <a:ext cx="771552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 fulfill your du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intain your integr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d serve honorab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you must be able to reason ethical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- FM 22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efine the problem 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25400" y="1643040"/>
          <a:ext cx="777240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SOLUTION 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PROBLEM MUST B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me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 many soldiers coming to eat at the sam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serv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rvers are too sl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erving l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nough serving l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 soldiers to eat fas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ldiers are not eating fast enoug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Know the relevant rul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5400" y="15840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9440" y="2484360"/>
            <a:ext cx="30096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200" y="1555920"/>
            <a:ext cx="77133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Evaluate Courses of Action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6400" y="1643040"/>
            <a:ext cx="8136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consequences of your courses of action (COA) by as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A best upholds Army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ny of the COA compromise Army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y COA violate a law, regulation, or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A is in the best interest of the Army and of the 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Choose the course of action that best represents Army valu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5400" y="2484000"/>
            <a:ext cx="77724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Army leader, you’re expected--by your bosses and your people--to make decisions that solve problems without violating Army val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43280" y="15843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LOYAL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75040" y="2192040"/>
            <a:ext cx="52466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be faithfu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my--the institution and i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unit 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LOYAL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loyal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r true faith and allegiance in the correct order to the Constitution, the Army, and the organiz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 higher headquarters’ prior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within the system without manipulating it for personal g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U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5400" y="293544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o your work not just to the minimum standard but to the very best of your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U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devotion to du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fill obligations--professional, legal, and m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out mission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professional stand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the exa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y with policies and direct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ally pursue excell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RESPECT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5400" y="292104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recognize and appreciate the inherent dignity and worth of all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RESPECT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1555560"/>
            <a:ext cx="770112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resp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 people as they should be tre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climate of fairness and equal opportun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discreet and tactful when correcting or questioning offic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concern for and make an effort to check on the safety and well-being of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urteo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take advantage of positions of autho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16:02:35Z</dcterms:created>
  <dc:creator>Darbyd</dc:creator>
  <dc:description/>
  <dc:language>en-US</dc:language>
  <cp:lastModifiedBy>Administrator</cp:lastModifiedBy>
  <cp:lastPrinted>2003-06-02T20:59:44Z</cp:lastPrinted>
  <dcterms:modified xsi:type="dcterms:W3CDTF">2005-07-08T11:38:02Z</dcterms:modified>
  <cp:revision>4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6114143</vt:r8>
  </property>
  <property fmtid="{D5CDD505-2E9C-101B-9397-08002B2CF9AE}" pid="3" name="_AuthorEmail">
    <vt:lpwstr>Johnnie.Dills@emh10.bliss.army.mil</vt:lpwstr>
  </property>
  <property fmtid="{D5CDD505-2E9C-101B-9397-08002B2CF9AE}" pid="4" name="_AuthorEmailDisplayName">
    <vt:lpwstr>Dills, Johnnie, S.</vt:lpwstr>
  </property>
  <property fmtid="{D5CDD505-2E9C-101B-9397-08002B2CF9AE}" pid="5" name="_EmailSubject">
    <vt:lpwstr>FW: This Lesson is for ANCOC PHase 2</vt:lpwstr>
  </property>
  <property fmtid="{D5CDD505-2E9C-101B-9397-08002B2CF9AE}" pid="6" name="_PreviousAdHocReviewCycleID">
    <vt:r8>-1362824335</vt:r8>
  </property>
  <property fmtid="{D5CDD505-2E9C-101B-9397-08002B2CF9AE}" pid="7" name="_ReviewingToolsShownOnce">
    <vt:lpwstr/>
  </property>
</Properties>
</file>